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453D-7255-4379-A419-E1354A5F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79C5-4FC3-480F-A93C-092BB8CF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0635-1A29-49B3-8433-6E0DBA98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778B-BEE0-4449-B4D9-15F8E212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97B2-204B-4A8A-9DB2-89D65ECC6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0E54-DCF6-4C4F-9AE1-762FFB63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F39-75F3-4A7D-87F8-4312BDD6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A999-E849-4285-81CF-CE313C37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FB6-BD6C-45FB-8D60-672218F0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F5C-8055-4979-AB0C-10A771A2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B060-0844-4369-9980-2255CFC4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F678-4B8C-42B0-A662-7EFCF2884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873B-0E9B-41DE-B484-2D5B77D7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514-C050-4E45-B885-B56383DD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A9C8-A8D8-4205-8887-1C925901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BD8-63AA-4E28-8AB7-66C80418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8677-0231-40E5-9076-F54E671F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794F-3521-4A68-AF19-E019D410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072F-0512-4BFD-968F-08F3478D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546-5DD4-43D1-8B7B-94B6BC9A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F03-975D-4DD6-82C2-AA4BF4E5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0E89-9E8B-4680-89E2-7638567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D2D1-F222-451C-A6D4-87C2DDA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0A28-6FA9-4B0D-80D1-B87517E7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64B1C-3A81-496D-B908-508CF72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5A70F-C1C6-44DE-8B97-A317C00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C8F36-903A-46F5-9C8A-2C646C1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0BE68-F093-4437-BACD-ECB13BF8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47781-70FC-494D-8D8A-C24E4510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993D6-D68C-4A50-8A07-2C365E51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8FF8B-652C-4E8D-A6EA-71927DF9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EB4-C622-41AA-9883-7ADF84C8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1A2D0-0FD8-407E-B39B-83513CCF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81163-6574-44E0-BA75-1585EE43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3B54-D005-43D1-BA34-5BBECEF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167A2-E897-4F80-AEDD-3FFBC09B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75C2C-0989-44B6-9F81-100D135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AC280-EF6A-4910-ABA2-AB1FBEF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126D-271E-4309-A498-C05EE65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0F4A0-4164-4731-9A01-DA0C32D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004BD-290B-4F1E-B4AF-849014D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90930-C0C8-4E53-B77E-948600F2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2E6-20CC-477E-9FD6-42DF091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CB3EF-8BD6-470A-B32C-EAAD7519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D34D0-31ED-4245-B3EF-E3ACAAE9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87F9B-D805-43CE-BEDB-724A696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F5E71-77A0-4A2C-BC30-70F1CB7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905D-339A-4240-BA4F-5E0C105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421D-F3D9-4CEF-B726-2BF10F4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2EE8-5F0A-476D-85AB-4CAA4628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CF1AC-17C1-468C-9AFA-6764E20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6D8E0-869B-430B-A5E0-6EC67AA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C71D1-8006-4B87-960D-6BD6499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ECFD-D2BC-4142-9B9D-F4788781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470B5-2EA3-4D56-9871-5DF633B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9F39F-F593-4ED9-AD11-E3325372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8F82-68C2-4C18-83A5-22B3874E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EBBB6-A06F-4717-990D-9D4DF791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CCAD-5FCB-409F-A466-4ACAA4B5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31251-8A64-4D4C-986C-917337E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72428-F08D-4C45-A03B-DAB3C63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F09A0-D053-48BE-83D9-01C4C55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BCE19-3B22-4B56-BA79-7C1DE9E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212EA-E80F-4D0C-8C24-DFAA52B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979-0B10-47EC-AF83-2771E0E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95016-E1D8-4030-B7B8-D4D39ED2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62BED-D1B7-4906-91AD-6918B15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EC407-4B6C-4D27-B7AD-1163889B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1B735-B30A-4757-BFF9-02BD33A4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FA853-4630-488C-97D0-B66C858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2DFBE-2AA9-42B8-9A1F-0EEE1429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377BD-8824-48CA-ACEF-1ACFF488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6F86F-3ACC-46CE-9C39-E3CF3BB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05F66-885D-44C0-8D27-0EFCD4A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D0FF5-8BA5-4A3D-87FC-64B00D7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AB2-1947-415E-AD42-ECF5CB1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9392E-E423-490F-8A19-F6806424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AD9BC-3FE2-4A71-A556-5900A46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A396C-21D7-4D57-B666-3AC6586A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42B06-4699-4258-8B9C-BFC8FB3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60FA6-4D6C-43A4-A10C-BEB8AA0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133E8-303C-478D-9821-36966B9A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B2F5B-27C3-4162-9494-F80F17C8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2CCD-4CB2-46A4-AB79-83C85D9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0C5E-650F-4D68-99EE-9E9F7752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D38-6D51-4640-A6FA-396EF8D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30C-1600-4FE1-8580-7677C532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EE5-9818-4D61-90F1-5628634C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EB43-93A4-4D61-8E4E-5398BA2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E52-ABE4-4AD6-96DE-D11EDA3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DF0B-F203-42EB-B8DD-B057DB02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532B-0D43-49F2-8160-FCBE1B9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C865-C809-4166-84DD-85E191C9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F55B-E369-4D1F-9EFD-BC97EF4A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ED3C-272E-4DB9-9D13-61A6569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A9C9-4357-4B0E-9116-5B15199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5DF2-36F4-4A0E-BE77-FF1DDBA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3B4C-F379-45F4-A672-76A62BA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CA7-1259-453B-A332-86EAB05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E315-CA4E-4695-80DE-DABF5EC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18FB-36C9-44CA-9BEE-3D6E512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32DC-A030-4E20-900C-4B9B7FE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FA79-9353-4C96-AF23-B5D01DC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E56C-4DFB-4300-B918-6AF55183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59CE-D218-4609-A989-599825B6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622E-AC85-47C0-939D-F4BD8331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AEEB7-97E2-4095-97C5-3A3F001E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3D6C0-1B37-41F0-B382-90AD73E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8E5B4-B215-4F85-AE07-1473C39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4FD-C65B-4BBF-A364-3931599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BF583-FD31-4223-83BB-349B63A9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ABD0B-9C63-44A4-AF75-99556BA6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8FD87-3DDF-449E-ADFE-757712C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FFC53-07E7-43EA-843D-7C6523F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A1E3C-2555-4EC4-9312-38E173C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A6657-E40C-40F0-ACF0-2E029DF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0094B-7099-4A58-A2C2-0912D5E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A924C-C5EC-4982-B3F5-EFF78672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6C6DE-DA27-49CE-A39E-FB65F6DB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2904-C80D-4547-B46F-8F1FBE2C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695-DC39-42CE-A432-BAFAAB9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2E48-43E5-4245-BC2F-22BFD652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66D5-504D-43EC-BC46-B7CF240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D319-31EA-4001-A009-028EFDA1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608C-9A98-4C2E-A0E8-7459FC6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F41F-4EC1-48E1-986C-2A904E1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FA94-82C2-409C-9430-F988E8B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6EC0-5480-459F-88B1-407CBE6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0AF1-D1F2-4272-9BDA-A6CFFED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DD09C-9E46-4BF3-850F-E02351A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87EA-3AD2-4F20-AD3B-E9608D81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4F1-71CD-4BB8-8AB6-0998E71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69925-DAD6-4D09-A09A-FCA8CE73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0F41-C7A7-4136-9DE4-E22145CC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5195-EAB6-4045-8D8B-E471DB20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17D9-1F8F-4A01-A321-F6D722D7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A580-4328-4E09-A92C-2A09A0EF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AD5D-8830-4C51-976C-A131FC1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0AE3-F2FA-47F2-9CF4-3380C4B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4DB3-58DE-489B-99C1-ED48DB8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D987-3CC4-4D39-AD4C-BBEFC87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8219-C4D8-4652-830B-14C9690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B70-F5CD-4DAA-B780-8FB9E526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63A8-5412-4987-85DE-9C34C896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3795-9020-495B-A824-E8F9D44E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0D33-6DE8-43F7-87B6-2DA618E5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5F32B-08C1-4A1A-9328-1DF67E67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3594-0870-443F-998D-24C3B18F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5A6C-A701-4714-9611-2D9B619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7C97B-D6E9-4D7C-AB78-8D69584F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342C-C2F9-4CD9-A279-41B7E7C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3CA5-88F4-4352-BD3F-B52C9A1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0DFD4-31C8-49CA-ADF0-2C46381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6FD-2587-46FE-A391-F05586F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D8104-3D2C-4408-BD4B-8943E7E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D9EA-C421-4219-9EFC-CB869E5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8AFC-4CAC-4984-B4F4-EBB42990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0456-E335-479A-ADDB-33EF793F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B36C2-CDBC-4291-B8F1-733EA5BF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99241-3A01-4330-831A-C038265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0375F-BBFD-4F23-BCCE-AF25769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F0617-ED34-4C42-A6E2-40C67053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F3EF0-CFE3-4996-AB17-5F7FAD9E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08754-AFAE-452A-8F8F-1534EBDE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79C-9E2A-4222-A3A4-5C391AC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34ED6-DEF0-41EC-BCB3-5F3E18E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CB789-6824-47FB-A0E1-11FC1FE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514E5-5D59-4F98-9E21-9B14A615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87BA-3F6A-404C-85A5-5F789AF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9B85-A6EA-44A8-A868-9E09BAF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AC14-BF45-4E8E-96B0-EEA07077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868E-29FE-4D6D-87E3-C0FC9046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B23EE-E552-434E-97C8-A55B3F8D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4307B-09E2-4BDA-A00A-C05243B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0A07E-FEF2-4566-AE0C-91BE58A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A71B-9AB9-4203-8594-FFDF791F7C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E791-AE3E-444A-AA47-C8D95765C9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4041-7902-4A71-8C02-A4DED2BAB3B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3BC-C60C-4EA3-BBC8-272C132D51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855F-A9C9-438B-949F-A22724148F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3DF-8D71-43B0-9106-117643C9B7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282-CB1F-4261-BF87-3529293922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ACC2-3CE0-4AFA-B12B-3C21BDD993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4A7-731A-440E-8F3A-4F18DFE5D7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56D-BA6A-4BE6-A9A0-B969857DA7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3782-39B0-4F02-8D30-267E3C4DC2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6830-8607-48D9-BA87-6539AE1BC7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1EE-CA93-4168-B22D-FE22344226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urrent Engineering and Team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urrent vs Traditiona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arallel operation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ryone is working toge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arketing, manufacturing, and procurement personnel involved from design stag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ditional Business Pract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ach step is done seriall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ne at a time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ne person works on one project at one tim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e of 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of teams and new technologies have changed the process of enginee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AD/CAM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apid Prototyp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hared Dat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dvanced Communication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738" name="Picture 5" descr="A3_prototyping"/>
          <p:cNvPicPr/>
          <p:nvPr/>
        </p:nvPicPr>
        <p:blipFill>
          <a:blip r:embed="rId1"/>
          <a:srcRect l="0" t="3706" r="0" b="20373"/>
          <a:stretch/>
        </p:blipFill>
        <p:spPr>
          <a:xfrm>
            <a:off x="4233960" y="838080"/>
            <a:ext cx="4349520" cy="5181840"/>
          </a:xfrm>
          <a:prstGeom prst="rect">
            <a:avLst/>
          </a:prstGeom>
          <a:ln w="0">
            <a:noFill/>
          </a:ln>
        </p:spPr>
      </p:pic>
      <p:sp>
        <p:nvSpPr>
          <p:cNvPr id="739" name="Rectangle 6"/>
          <p:cNvSpPr/>
          <p:nvPr/>
        </p:nvSpPr>
        <p:spPr>
          <a:xfrm>
            <a:off x="4334760" y="5943600"/>
            <a:ext cx="41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mid.nl/ned/frameA3_services_prototypi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eed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ely delivery of products to marketpla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itical for pro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compromise quality to meet dema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have seen what wins in our marketplaces around the globe: speed, speed, and more speed.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Jack Welch - Former CEO of GE</a:t>
            </a:r>
            <a:endParaRPr b="0" lang="en-US" sz="1800" spc="-1" strike="noStrike">
              <a:solidFill>
                <a:srgbClr val="a04da3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duce product development time to 1/3, and you will triple profits and growth.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- Business Week</a:t>
            </a:r>
            <a:endParaRPr b="0" lang="en-US" sz="1800" spc="-1" strike="noStrike">
              <a:solidFill>
                <a:srgbClr val="a04da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ject Management Uses Team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in 1950s and 1960s as a way to manage defense contra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 of organizing individuals by products/projects not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-functional team approa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 vertical divi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 Easy Task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ject managers never given all the time, people, and money need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irrored in student design team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ncomfortable, but prepares for engineering worl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lanning work, schedules, and direct resource u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Gantt Ch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44197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7" descr="Six week Gantt Chart"/>
          <p:cNvPicPr/>
          <p:nvPr/>
        </p:nvPicPr>
        <p:blipFill>
          <a:blip r:embed="rId1"/>
          <a:stretch/>
        </p:blipFill>
        <p:spPr>
          <a:xfrm>
            <a:off x="3962520" y="1905120"/>
            <a:ext cx="4719600" cy="266220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8"/>
          <p:cNvSpPr/>
          <p:nvPr/>
        </p:nvSpPr>
        <p:spPr>
          <a:xfrm>
            <a:off x="4191120" y="44956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ad.cart.org/Home/robo/team/tea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roup vs Te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everal individuals in some proximity to one ano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wo or more persons working together to achieve a common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685800" y="495288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 Team IS NOT the same as a Grou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ts task at hand, reason it was form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ive style is how the members worked toge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has own style, approach, dynamic, and ways of communic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endship IS NOT a requirement for successful te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Attributes to be Successfu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on goal or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ry member contribute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member makes unique contribu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ective team commun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ffective meetings, honest and open discussion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Spa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rmonious relationships among memb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ective planning and use of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dividual Team Member Attributes to be a Succ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ttends all meetings on time (Dependable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ponsi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ccepts and completes tasks on tim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eets team’s needs fully for the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and Energe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s excited and has a positive attitud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courages, creates productive and fun sett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rowth Stages of a Te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s require nurtu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rough several development stages before becoming successfu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y team challenge is to grow through these stages and achieve perform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gineering schools requiring students work in tea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ollaborative study group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Laboratory group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sign groups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as part of individual classe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participating in extracurricular competition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emphasis mirrors management philosop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1: F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members become acquainted wi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ne ano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 Lead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r they choose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eam’s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verall level of commitment (workload) require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 one another’s personalities, abilities, talents, and wea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2: St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ormity and complexity of task sinks 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y discour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person doing ALL the work is FAIL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hip is critical and must focus team on task and strengths during rough ti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3: N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bers begin to accept one another instead of complai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ed expectations or rules among the te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elings of closeness, interdependence, unity, and cooperation devel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4: Perf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s accomplish a great de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ponsibilities distributed and executed individual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member holds the other account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bers may pitch in to help one anoth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 becomes indistinguish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5: Adjou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disba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complished go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ccessful teams may feel euphor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derperforming team may feel disappointment or ang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1" name="Picture 5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434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Leadership Stru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ip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ul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s need to choose a structure that models how they want to beha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1442880" y="597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ditional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ong leader who directs the 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y have little participation  or discussion from t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paration between leader and other team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7" name="Picture 5" descr="emperor leader and follower"/>
          <p:cNvPicPr/>
          <p:nvPr/>
        </p:nvPicPr>
        <p:blipFill>
          <a:blip r:embed="rId1"/>
          <a:stretch/>
        </p:blipFill>
        <p:spPr>
          <a:xfrm>
            <a:off x="4419720" y="2057400"/>
            <a:ext cx="4724280" cy="35164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724280" y="1600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 Leader Peng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4543920" y="5562720"/>
            <a:ext cx="46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enguin.servehttp.com/sven/antarctica/Penguins/Empero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icipative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ader positioned closely to all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rt, direct commun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rect accountability of the leader to all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pendence on leader on team’s particip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2" name="Picture 5" descr="q9y399iw"/>
          <p:cNvPicPr/>
          <p:nvPr/>
        </p:nvPicPr>
        <p:blipFill>
          <a:blip r:embed="rId1"/>
          <a:stretch/>
        </p:blipFill>
        <p:spPr>
          <a:xfrm>
            <a:off x="5181480" y="1752480"/>
            <a:ext cx="2832120" cy="428796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6"/>
          <p:cNvSpPr/>
          <p:nvPr/>
        </p:nvSpPr>
        <p:spPr>
          <a:xfrm>
            <a:off x="4724280" y="61722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rrorimageorigin.collegepublisher.com:80/media/paper660/stills/q9y399iw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4159800" y="1371600"/>
            <a:ext cx="49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my Captain is an example of thi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at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hasizes leader’s role as a working team memb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 is an equal to the team, not abo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7" name="Picture 5" descr="teamwork_kids_teamwork_A"/>
          <p:cNvPicPr/>
          <p:nvPr/>
        </p:nvPicPr>
        <p:blipFill>
          <a:blip r:embed="rId1"/>
          <a:stretch/>
        </p:blipFill>
        <p:spPr>
          <a:xfrm>
            <a:off x="4038480" y="1752480"/>
            <a:ext cx="4719600" cy="35118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"/>
          <p:cNvSpPr/>
          <p:nvPr/>
        </p:nvSpPr>
        <p:spPr>
          <a:xfrm>
            <a:off x="4334760" y="525780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gcpuzzles.com/mgcpuzzles/corporate_idea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419720" y="990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ick out the le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sultant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ationship between student team and instru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or is not part of the team will be nearby to serve as a resou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vise tea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chnical Consulta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sciplinary Ac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do Corporations Focus on the use Team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ngineers asked to solve complex problem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ore factors in design than ever befo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eams understand more through collabor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any corporations are global, operations spread all arou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ncurrent engineering widely employed due to time to market chang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rporations increasing project management principl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3" name="Picture 7" descr="Dodge Viper Front"/>
          <p:cNvPicPr/>
          <p:nvPr/>
        </p:nvPicPr>
        <p:blipFill>
          <a:blip r:embed="rId1"/>
          <a:srcRect l="0" t="0" r="0" b="15332"/>
          <a:stretch/>
        </p:blipFill>
        <p:spPr>
          <a:xfrm>
            <a:off x="3962520" y="2666880"/>
            <a:ext cx="4948200" cy="31212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8"/>
          <p:cNvSpPr/>
          <p:nvPr/>
        </p:nvSpPr>
        <p:spPr>
          <a:xfrm>
            <a:off x="4572000" y="1905120"/>
            <a:ext cx="3809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ge V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eam to showroom in three yea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4572000" y="57913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dodge.com/vi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des of Team A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ens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o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vera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thority Rule Without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thority Rule With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sens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ision in which all members find common g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portunity to express views and hea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a unanimous v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jo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tion that receives the most votes wi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akes less time than meeting consens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less creative dialo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ority may become alien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no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subset of a team makes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edites the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 communication is l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ome members may be prevented from contribu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verag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omise in the worst for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omplished with haggling, bargaining, cajoling, and manipul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 opinions cancel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ttle productive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st informed cancel votes of knowledge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per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st teams recognize and seek this person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ision made with accurate, expert knowl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times experts may disagree on best course of action because of their knowl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uthority Rule Without Discu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ng leader makes decisions without discussing with team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 well with small, administrative, dec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eatest disadvantage is team’s trust in leader may be undermin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uthority Rule With Discu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eader makes the final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s out team input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 members are part of the process and feel valu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tting Going In 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o give your best to help team grow and accomplish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expect perfect teamm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careful about first team impres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a l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p team achieve own identity and 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pati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and grade yourself and team’s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 of a L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-152640" y="213372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eat teams need great leadershi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ithout it, humans tend to drift, act alone, and lose purpos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sure team members remain focused and maintain positive attitu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2" name="Picture 5" descr="great-leaders"/>
          <p:cNvPicPr/>
          <p:nvPr/>
        </p:nvPicPr>
        <p:blipFill>
          <a:blip r:embed="rId1"/>
          <a:stretch/>
        </p:blipFill>
        <p:spPr>
          <a:xfrm>
            <a:off x="3124080" y="1219320"/>
            <a:ext cx="6477120" cy="481644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6"/>
          <p:cNvSpPr/>
          <p:nvPr/>
        </p:nvSpPr>
        <p:spPr>
          <a:xfrm>
            <a:off x="5150520" y="495288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ennesaw.edu/ilec/hom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creasing Complexity of Proje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800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usket had 51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ivil War era Springfiel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40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cycle (late 1800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200+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omobi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s of 1000s of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oeing 747 aircraf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5 million+ compon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Over 10,000 person-years of design tim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ader Attribu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cus team on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a team buil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 well and utilize resources effective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un effective meet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e effective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mote team harmony by fostering positive environ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ster high levels of performance, creativity, and professiona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adership Sty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ask-Orien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cerned of team’s purpose and task at han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lan the schedul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fine the wor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ssign task responsibilit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 clear work standard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rge task comple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onitor resul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-Orien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rm and supportive toward team membe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evelop team rapp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espect followers’ feeling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nsitive to followers’ need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how trust in follower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685800" y="579132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58840" indent="-181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 Successful team needs both styles of leadership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Grading and Repor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urpose accomplished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lts high or low quality?  Wh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grow through all stages?  Detour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lect on 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members on report c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xample Next slid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team leaders.  Effecti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nestly evaluate your contribu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Member Report Ca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685800" y="1981080"/>
          <a:ext cx="7772400" cy="4189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03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am M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tten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verage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Than Just One Par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dern design problems involve individual parts AND subsyst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echanic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lectric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tro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rm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ny Oth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requires specialists acting in tea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0" name="Picture 5" descr="KSC-82PC-0107"/>
          <p:cNvPicPr/>
          <p:nvPr/>
        </p:nvPicPr>
        <p:blipFill>
          <a:blip r:embed="rId1"/>
          <a:stretch/>
        </p:blipFill>
        <p:spPr>
          <a:xfrm>
            <a:off x="533520" y="2286000"/>
            <a:ext cx="4033800" cy="320364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814680" y="5562720"/>
            <a:ext cx="35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ksc.nasa.gov/photos/1982/medi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ineer Design Facto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itial Pr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fe Cycle Cos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verall Qu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rgonom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ufactur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vironmental Fa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ld Market Accep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ineers are Do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volves solving difficult probl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ing technical solutions while considering numerous constrai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hings happ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ernational Facto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y corporations are international in scop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quires communication and sharing data electronica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ms may never physically me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t any point in a 24-hour period in any part of the world, an engineer may be working on the produc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729" name="Picture 5" descr="37"/>
          <p:cNvPicPr/>
          <p:nvPr/>
        </p:nvPicPr>
        <p:blipFill>
          <a:blip r:embed="rId1"/>
          <a:stretch/>
        </p:blipFill>
        <p:spPr>
          <a:xfrm>
            <a:off x="0" y="2209680"/>
            <a:ext cx="5405400" cy="348948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6"/>
          <p:cNvSpPr/>
          <p:nvPr/>
        </p:nvSpPr>
        <p:spPr>
          <a:xfrm>
            <a:off x="685800" y="57150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nlinesecurity.com/Community_Forum/Community_Forum_detail37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Need For Spe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urrent engineering achieves better designs and brings the product to market more quick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 to Mark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tal time needed to plan, prototype, and procure materials and to create marketing strategies, devise tooling, begin production and bring new product to the marke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2:56:43Z</dcterms:created>
  <dc:creator>Christopher Neff</dc:creator>
  <dc:description/>
  <dc:language>en-US</dc:language>
  <cp:lastModifiedBy>walmart</cp:lastModifiedBy>
  <dcterms:modified xsi:type="dcterms:W3CDTF">2014-03-21T12:26:20Z</dcterms:modified>
  <cp:revision>30</cp:revision>
  <dc:subject/>
  <dc:title>Concurrent Engineering and Teamwork</dc:title>
</cp:coreProperties>
</file>